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61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6160"/>
              <a:gd name="textAreaBottom" fmla="*/ 9865800 h 9866160"/>
            </a:gdLst>
            <a:ahLst/>
            <a:rect l="textAreaLeft" t="textAreaTop" r="textAreaRight" b="textAreaBottom"/>
            <a:pathLst>
              <a:path w="21600" h="31639">
                <a:moveTo>
                  <a:pt x="5" y="0"/>
                </a:moveTo>
                <a:arcTo wR="5" hR="5" stAng="16200000" swAng="-5400000"/>
                <a:lnTo>
                  <a:pt x="0" y="31634"/>
                </a:lnTo>
                <a:arcTo wR="5" hR="5" stAng="10800000" swAng="-5400000"/>
                <a:lnTo>
                  <a:pt x="21595" y="3163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69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116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080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BCB9233C-26F3-4FC5-9E79-352757EA56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2F681CD-B34F-43C1-B3FA-2F2A58855EC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EB57174-E4F5-4F77-8F10-5025B2486F3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7B254F6A-A42C-46FD-9CEA-2F00D39940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608493B5-AB8F-445A-818F-F215796F0E9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9FD562B1-A12A-469A-AE82-2C14E1C7A59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116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778CD30-4DD5-4114-907D-AB66E45168C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480"/>
            <a:ext cx="539100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1FD4-302D-433C-A462-90DF62175E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ED2D4-9689-4809-B0E7-3619F11C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8C2B8-FE3F-4429-8D2A-F7C28465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75F5F-836B-4F72-9278-F32F46B3D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CAF79-B01D-418C-8033-ACCA4E74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96CC2-9DEF-4050-B2CA-49ADEA39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A00A7-585B-4505-AD90-24045FF5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B1A4-5DC0-4A71-8E46-86532B922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51D21-0C3D-4DCC-8E40-0F1E888E3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2CE42-F9EE-4629-8EB8-40F73CF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8BD50-F7DA-4ABD-8D69-768CB6CAE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B530C-B68A-45FC-BBF3-96500339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ED4ADE-7AE1-4338-BD1C-241402A9DECA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                                                                                                                                                          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                                                                            «ГБУЗ Кузнецкая межрайонная больница» поликлиника №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79280" y="2093760"/>
          <a:ext cx="8624880" cy="3341880"/>
        </p:xfrm>
        <a:graphic>
          <a:graphicData uri="http://schemas.openxmlformats.org/drawingml/2006/table">
            <a:tbl>
              <a:tblPr/>
              <a:tblGrid>
                <a:gridCol w="39060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 04.02 по 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2 государственном бюджетном учреждении здравоохранения  «Кузнецкая межрайонная больница» рабочую группу по реализации проекта «Бережливая поликлиника» на территории поликлиники№2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ы  коррекции регистратуры поликлиники и кабинета профилактик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7ffd1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для сдачи биологических жидкостей на анализы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на проведение 1 этапа диспансеризации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0"/>
            <a:ext cx="8394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460188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5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25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бор ключевых проблем и целей для запуска проекта «Бережливая поликлиника» на собрании коллектива медицинской организаци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7.02-0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41560"/>
                <a:gridCol w="49716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новых условиях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1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ых посадочных мест для пациентов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в кабинет прфилактики мебели (стулья, столы, ширма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8238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02-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:                                        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.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менное квотирование  для сдачи биологических жидкостей на анализы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8.05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Руководитель проектного офиса           зав.  поликлиникой № 2 Приступа Н.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8-01-18T10:20:20Z</cp:lastPrinted>
  <dcterms:modified xsi:type="dcterms:W3CDTF">2019-02-04T13:41:49Z</dcterms:modified>
  <cp:revision>349</cp:revision>
  <dc:subject/>
  <dc:title>Слайд 1</dc:title>
</cp:coreProperties>
</file>